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512-1D0E-4CBA-A1FE-01E17B06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C1E-7AB0-4A54-9617-0F1E9989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F3D-F4BC-4605-B3DD-B29DC080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526-DE69-4E16-92B7-E268FA73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82E-7CAD-40A0-99B3-529C9127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AB2-7E35-4F28-9883-B0CD59B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B19-7144-40F4-AB0F-23C2C7D5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9FE-37C5-4D04-951B-F4C90196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0DC-64A7-4515-B539-F8F12D6F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EA7-EE09-4E9A-8F03-DE4CB67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97A-8E08-4603-A7BD-CAB1403B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D74-93E2-459A-87AC-FDF47C9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CFB6-1D5E-441D-AEB1-E7C8973F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172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486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800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429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743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m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s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685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685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cid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85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1371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85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tat des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tu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371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057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114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50:09Z</dcterms:modified>
  <cp:revision>70</cp:revision>
  <dc:subject/>
  <dc:title>Contrôle interne des risques</dc:title>
</cp:coreProperties>
</file>